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5122-8D94-4649-AC5B-E72709AB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DD3C-C191-4575-8003-CEFDA255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F9E8-47A9-49F0-866E-D31067A9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44EE-7697-4F03-A46E-66A32005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937E-36E4-4B97-98E9-05326936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D697-DCA1-4C41-A7C7-D3EF564C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7B34-2401-407A-A12D-EF676495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ADDB-7AA5-42E3-9D49-EF3DCE37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6484-C048-48A0-AD08-688A2803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B219-F427-4E5F-A1A7-EABFA2B2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4907-34CF-42A8-A5FA-15E83A6E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6015-8E10-4D47-81FA-8002C6DD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8B7D-EFD0-4E04-B966-1507F25A0BF5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APITOL 1</a:t>
            </a: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Calibri"/>
              </a:rPr>
              <a:t>SISTEME DE OPER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Calibri"/>
              </a:rPr>
              <a:t>NAVIGARE W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DIRECTOR PROI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944640" y="1143000"/>
            <a:ext cx="741348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FISIER SUNET  -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ine 1" descr=""/>
          <p:cNvPicPr/>
          <p:nvPr/>
        </p:nvPicPr>
        <p:blipFill>
          <a:blip r:embed="rId1"/>
          <a:stretch/>
        </p:blipFill>
        <p:spPr>
          <a:xfrm>
            <a:off x="571680" y="1285920"/>
            <a:ext cx="4410000" cy="3305160"/>
          </a:xfrm>
          <a:prstGeom prst="rect">
            <a:avLst/>
          </a:prstGeom>
          <a:ln w="0">
            <a:noFill/>
          </a:ln>
        </p:spPr>
      </p:pic>
      <p:pic>
        <p:nvPicPr>
          <p:cNvPr id="47" name="Imagine 4" descr=""/>
          <p:cNvPicPr/>
          <p:nvPr/>
        </p:nvPicPr>
        <p:blipFill>
          <a:blip r:embed="rId2"/>
          <a:stretch/>
        </p:blipFill>
        <p:spPr>
          <a:xfrm>
            <a:off x="4357800" y="3143160"/>
            <a:ext cx="461016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FISIER AUDIO CU FUND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magine 4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3807000" cy="2857320"/>
          </a:xfrm>
          <a:prstGeom prst="rect">
            <a:avLst/>
          </a:prstGeom>
          <a:ln w="0">
            <a:noFill/>
          </a:ln>
        </p:spPr>
      </p:pic>
      <p:pic>
        <p:nvPicPr>
          <p:cNvPr id="50" name="Imagine 10" descr=""/>
          <p:cNvPicPr/>
          <p:nvPr/>
        </p:nvPicPr>
        <p:blipFill>
          <a:blip r:embed="rId2"/>
          <a:stretch/>
        </p:blipFill>
        <p:spPr>
          <a:xfrm>
            <a:off x="4714920" y="1428840"/>
            <a:ext cx="3881520" cy="2916000"/>
          </a:xfrm>
          <a:prstGeom prst="rect">
            <a:avLst/>
          </a:prstGeom>
          <a:ln w="0">
            <a:noFill/>
          </a:ln>
        </p:spPr>
      </p:pic>
      <p:pic>
        <p:nvPicPr>
          <p:cNvPr id="51" name="Imagine 34" descr=""/>
          <p:cNvPicPr/>
          <p:nvPr/>
        </p:nvPicPr>
        <p:blipFill>
          <a:blip r:embed="rId3"/>
          <a:stretch/>
        </p:blipFill>
        <p:spPr>
          <a:xfrm>
            <a:off x="2143080" y="3500280"/>
            <a:ext cx="40338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CREARE PAGINI WIKI </a:t>
            </a:r>
            <a:br>
              <a:rPr sz="4000"/>
            </a:b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– ADAUGARE FISI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ADAUGARE IMAGINI SUNETE PE WIK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POSTARE EVALUARI PE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3:45:57Z</dcterms:created>
  <dc:creator>user</dc:creator>
  <dc:description/>
  <dc:language>en-US</dc:language>
  <cp:lastModifiedBy>a7med yones</cp:lastModifiedBy>
  <dcterms:modified xsi:type="dcterms:W3CDTF">2012-02-12T19:32:54Z</dcterms:modified>
  <cp:revision>2</cp:revision>
  <dc:subject/>
  <dc:title>CAPITOL 1  </dc:title>
</cp:coreProperties>
</file>